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7AFD6-4D29-47F2-A1FD-52559D935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4B448-71CE-4CF1-B24A-DE2A06BE7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F951E-51EE-43E0-B5C7-10AAA0BEE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DF212-9BA4-44D2-B2F3-CABD8B18A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84B8D-4710-449A-B38D-1E701D217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C0DD4-EEDB-4BE6-A780-E45D809F2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87515-C6BF-4983-A1CB-727462A0C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41E5C-69AD-48A5-92F4-224B1D40E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D07E6-7C3E-41FC-9B46-CFEEEA391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2FDA8-9054-4169-BB6F-E99874D87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FF95E-8E24-44F2-967A-DCA9C3550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80347-D94A-43AD-A867-162541699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5C209-5176-4641-BEEF-A55D23B01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1764D-F5B8-4F26-ACE0-76FB27511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709A3-4573-40C1-91D5-0E9A26941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9D8FD-422E-4A01-AD3A-F65122E07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B1FAC-6D56-4A29-A56A-511282A35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10253-3FC1-4242-8121-C2ACAFAB4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F8FFD-5F93-4FBE-95FA-E82E5F83F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78610-78C0-44EF-94BF-732C9F9A0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C1B4-D992-4ABF-86A4-18F255206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26B98-3B3B-47CB-9E8B-0C873DD82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E8957-AFD0-4A6C-89E7-B712901AA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37E45-CE8C-4A24-80DB-5041A9F65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61A6-B46D-4DC0-B359-C9BCE95D893D}"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1FD7-5FBA-451E-BE24-7749F93F622C}"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华文新魏"/>
              </a:rPr>
              <a:t>参评学生简介</a:t>
            </a:r>
            <a:endParaRPr b="0" lang="en-US" sz="4400" spc="-1" strike="noStrike">
              <a:solidFill>
                <a:srgbClr val="333399"/>
              </a:solidFill>
              <a:latin typeface="Tahoma"/>
            </a:endParaRPr>
          </a:p>
        </p:txBody>
      </p:sp>
      <p:sp>
        <p:nvSpPr>
          <p:cNvPr id="99" name="PlaceHolder 2"/>
          <p:cNvSpPr>
            <a:spLocks noGrp="1"/>
          </p:cNvSpPr>
          <p:nvPr>
            <p:ph/>
          </p:nvPr>
        </p:nvSpPr>
        <p:spPr>
          <a:xfrm>
            <a:off x="684360" y="2017440"/>
            <a:ext cx="4308480" cy="1771560"/>
          </a:xfrm>
          <a:prstGeom prst="rect">
            <a:avLst/>
          </a:prstGeom>
          <a:noFill/>
          <a:ln w="0">
            <a:noFill/>
          </a:ln>
        </p:spPr>
        <p:txBody>
          <a:bodyPr lIns="90000" rIns="90000" tIns="46800" bIns="46800" anchor="t">
            <a:normAutofit fontScale="32000"/>
          </a:bodyPr>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姓名：周洁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年级：博士三年级</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指导教师</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孙六全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专业方向</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概率统计</a:t>
            </a:r>
            <a:endParaRPr b="0" lang="en-US" sz="2800" spc="-1" strike="noStrike">
              <a:solidFill>
                <a:srgbClr val="000000"/>
              </a:solidFill>
              <a:latin typeface="Tahoma"/>
            </a:endParaRPr>
          </a:p>
          <a:p>
            <a:pPr marL="109440" indent="0">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
        <p:nvSpPr>
          <p:cNvPr id="100" name="PlaceHolder 3"/>
          <p:cNvSpPr>
            <a:spLocks noGrp="1"/>
          </p:cNvSpPr>
          <p:nvPr>
            <p:ph/>
          </p:nvPr>
        </p:nvSpPr>
        <p:spPr>
          <a:xfrm>
            <a:off x="108000" y="4295520"/>
            <a:ext cx="8494560" cy="2374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2800" spc="-1" strike="noStrike">
                <a:solidFill>
                  <a:srgbClr val="0066ff"/>
                </a:solidFill>
                <a:latin typeface="华文宋体"/>
                <a:ea typeface="华文宋体"/>
              </a:rPr>
              <a:t>  </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对于带有相依终止时间下的复发事件变系数半参模型及带信息观测的纵向数据模型，提出了有效的估计方法，并证明了估计的渐近性质</a:t>
            </a:r>
            <a:r>
              <a:rPr b="1" lang="en-US" sz="2400" spc="-1" strike="noStrike">
                <a:solidFill>
                  <a:srgbClr val="000000"/>
                </a:solidFill>
                <a:latin typeface="华文宋体"/>
                <a:ea typeface="华文宋体"/>
              </a:rPr>
              <a:t>,</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同时对一些实际数据进行统计分析。所获得的结果既有重要的理论意义，又有广泛应用前景。</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endParaRPr b="0" lang="en-US" sz="2000" spc="-1" strike="noStrike">
              <a:solidFill>
                <a:srgbClr val="000000"/>
              </a:solidFill>
              <a:latin typeface="Tahoma"/>
            </a:endParaRPr>
          </a:p>
        </p:txBody>
      </p:sp>
      <p:pic>
        <p:nvPicPr>
          <p:cNvPr id="101" name="" descr=""/>
          <p:cNvPicPr/>
          <p:nvPr/>
        </p:nvPicPr>
        <p:blipFill>
          <a:blip r:embed="rId1"/>
          <a:stretch/>
        </p:blipFill>
        <p:spPr>
          <a:xfrm>
            <a:off x="4356000" y="1870200"/>
            <a:ext cx="4032360" cy="271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02:45:16Z</dcterms:created>
  <dc:creator>unknown</dc:creator>
  <dc:description/>
  <cp:keywords/>
  <dc:language>en-US</dc:language>
  <cp:lastModifiedBy>unknown</cp:lastModifiedBy>
  <dcterms:modified xsi:type="dcterms:W3CDTF">2014-08-21T07:55:04Z</dcterms:modified>
  <cp:revision>4</cp:revision>
  <dc:subject/>
  <dc:title>研究院院长奖学金优秀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y fmtid="{D5CDD505-2E9C-101B-9397-08002B2CF9AE}" pid="3" name="Version">
    <vt:r8>6</vt:r8>
  </property>
</Properties>
</file>